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F164-B179-452C-9A9B-F87F08A1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81EF-BD74-48CA-97F4-2BE7F4EF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E66-B780-4540-99C0-AD77D878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35F-61E7-4832-8AB6-B54D12A2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364-6BFC-41FB-8EDD-B0554839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6CB-6317-4C41-B075-0168376B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8C0-B362-430D-B843-ECF52C09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A40-B7A4-4849-980E-407BECAE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2FE-96A5-44A0-9505-BD997E56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30B-E92B-4E49-8986-9D35D7DC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2D4-B7CE-41E0-AB6D-1C48FAA5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799A-1B98-4AC7-8465-01CCA725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3C9D-D46C-4565-B604-B34016DD8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172200" y="6324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2FS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00400" y="1521000"/>
            <a:ext cx="256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66688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lesson presents a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HRS Enterprise Datasto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138880" y="6210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69960" y="228600"/>
          <a:ext cx="77724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28600"/>
                    <a:ext cx="77724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8824680" y="6438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3:19:39Z</dcterms:created>
  <dc:creator>AG SCHOOL</dc:creator>
  <dc:description/>
  <dc:language>en-US</dc:language>
  <cp:lastModifiedBy>Administrator</cp:lastModifiedBy>
  <cp:lastPrinted>2003-10-01T13:55:15Z</cp:lastPrinted>
  <dcterms:modified xsi:type="dcterms:W3CDTF">2005-07-08T17:17:45Z</dcterms:modified>
  <cp:revision>8</cp:revision>
  <dc:subject/>
  <dc:title>No Slide Title</dc:title>
</cp:coreProperties>
</file>